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92E-3665-42D4-9EDD-7CC73CA2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52F-D746-43AF-A68E-2987EFE2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576-08E3-47C5-B29D-058FF303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3B5-DD51-4513-80DA-309CC600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7ACE-28DE-49A8-BD2D-4301C193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CC3F-A94D-40F1-A7BF-F44FF0F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BFAB-5151-4470-9E5F-98886AE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DE29-B1B2-4ABA-A497-D6D2122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269-A503-43F6-9C4E-2638310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497A-00EB-49F2-91C1-920B43CF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0FF-BA31-480C-971E-1325DE06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012-0006-4AB8-BEC8-FEBC0A5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0A2-C7AB-499D-8263-7F4E9197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4FB6-2334-4FBB-B3F7-3D20B1B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480-B715-4FBD-AB6F-2F094EAA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053-F298-4A8E-A965-4E5E2995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419F-E9C0-4A0B-8B30-92DD633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F2F-8BCA-40ED-A060-C558A912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F4B-0910-40FA-8A24-B84C1675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F29-9573-4D9A-944F-ED3A949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D19-6F30-483F-AA51-6F9162BD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6AA-186B-4ACB-A706-6624E2E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3EB-78EB-4AFE-B333-B84017C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19-D8AB-4A40-86A5-7320B66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6B3E-C78E-434B-96C2-482EC5FCF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ntologies – Deborah L. McGuin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07A-BA1D-4277-9B15-7F506796E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The “Pull” for Ontologies </a:t>
            </a:r>
            <a:br>
              <a:rPr sz="4000"/>
            </a:br>
            <a:r>
              <a:rPr b="0" i="1" lang="en-US" sz="2800" spc="-1" strike="noStrike">
                <a:solidFill>
                  <a:srgbClr val="00cccc"/>
                </a:solidFill>
                <a:latin typeface="Times New Roman"/>
              </a:rPr>
              <a:t>(and what we might do about it…</a:t>
            </a:r>
            <a:br>
              <a:rPr sz="2800"/>
            </a:br>
            <a:r>
              <a:rPr b="0" i="1" lang="en-US" sz="2800" spc="-1" strike="noStrike">
                <a:solidFill>
                  <a:srgbClr val="00cccc"/>
                </a:solidFill>
                <a:latin typeface="Times New Roman"/>
              </a:rPr>
              <a:t>…Creating and Maintaining Distributed Ontologies)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orah McGui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 Director and Senior Research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Systems Labo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, CA 943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0-723-97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m@ksl.stanford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KB Merging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independently by multiple auth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a common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representations and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 merged KB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redun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h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cabulary, content, and 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-3049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How KB Merging Tools Can Help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bine input KBs with name clas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 each input KB as a separate name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 merging of classes and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ace all occurrences by the merged class or re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for logical consistency of m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for differences between merge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 merging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ly look for inconsistent ext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tch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name clashes, subsumed names, synonyms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ions of KB where new relationships are likely to be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sibling subclasses from multiple input K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rive relationships among classes and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jointness, equivalence, subsumption, inconsistency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kb-upload-languages" descr=""/>
          <p:cNvPicPr/>
          <p:nvPr/>
        </p:nvPicPr>
        <p:blipFill>
          <a:blip r:embed="rId1"/>
          <a:srcRect l="0" t="0" r="3172" b="18944"/>
          <a:stretch/>
        </p:blipFill>
        <p:spPr>
          <a:xfrm>
            <a:off x="1828800" y="6094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view-menu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3532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name-resolution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705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add-to-decomposition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69912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Analysi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at may not be 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 overlapping knowledge i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ifferent, possibly contradictory 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differing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y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y must be reviewed for appropriateness and “correctnes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y must b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y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ur KB Analysis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ing differ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y be syntactically but not semantically vali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duce KB logs (in interactive environ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dentify provabl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uggest possible problems in style and/or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e extensible by being user programm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nalysis-menu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1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collage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248520" cy="3171600"/>
          </a:xfrm>
          <a:prstGeom prst="rect">
            <a:avLst/>
          </a:prstGeom>
          <a:ln w="0">
            <a:noFill/>
          </a:ln>
        </p:spPr>
      </p:pic>
      <p:pic>
        <p:nvPicPr>
          <p:cNvPr id="173" name="collage1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44388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at is an Ontology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" y="22860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og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53120" y="1905120"/>
            <a:ext cx="172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40" y="3809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8680" y="1523880"/>
            <a:ext cx="16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per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905120"/>
            <a:ext cx="1676520" cy="2743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Rest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jointness, Inverse, part-of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ollage7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334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collage2" descr=""/>
          <p:cNvPicPr/>
          <p:nvPr/>
        </p:nvPicPr>
        <p:blipFill>
          <a:blip r:embed="rId1"/>
          <a:stretch/>
        </p:blipFill>
        <p:spPr>
          <a:xfrm>
            <a:off x="1876320" y="2133720"/>
            <a:ext cx="53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scussion/Conclus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tologies are expl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will create languages and environments without us if we do not move 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applications need more expressive ontologies and more back end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users (the general public) need more support than previous users of KR&amp;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ntologies need more support for merg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could be our killer a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xtr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KSL KB Merging Tool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ing can be arbitrarily diffic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can differ in basic representationa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require extensive negotiation among auth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ls can significantly accelerate major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B merging using conventional editing tool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       </a:t>
            </a:r>
            <a:r>
              <a:rPr b="1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intensive       </a:t>
            </a:r>
            <a:r>
              <a:rPr b="1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sis: tools specifically designed to support KB merging can significa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up the merging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 the quality of the resulting 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22896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ntologies provi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shared vocabular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arch engines, authors, users, databases, programs all speak sam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tion (and navigation supp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 setting  (left side of many web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 support (tagged structures such as Yahoo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support (query expansion approaches such as FindUR, e-Cy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disambig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  I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expansion and le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lict 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ression testing/validation/verification support foun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d, comparative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ation/ Spe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-Commerce  Search </a:t>
            </a:r>
            <a:br>
              <a:rPr sz="4400"/>
            </a:br>
            <a:r>
              <a:rPr b="0" i="1" lang="en-US" sz="2000" spc="-1" strike="noStrike">
                <a:solidFill>
                  <a:srgbClr val="00cccc"/>
                </a:solidFill>
                <a:latin typeface="Times New Roman"/>
              </a:rPr>
              <a:t>(starting point Forrester modified by McGuinness)</a:t>
            </a:r>
            <a:endParaRPr b="0" i="1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k Que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ultiple search interfaces (surgical shoppers, advice seekers, window shopp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t user expectations (interactive query refine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nticipate anoma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asic information (multiple sorts, filtering, structu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odify results (user defined parameters for refining, user profile info, narrow query, broaden query, disambiguate que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ggest alternatives (suggest other comparable products even from competitor’s si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anipulate results (enable side by side compari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ve deeper (provide additional info, multimedia, other view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ke action (bu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A Few Observations about Ontologie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ple ontologies can be built by non-exp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Verity’s Topic Editor, Collaborative Topic Builder, GFP interface, Chima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can be semi-automatically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crawls of site such as yahoo!, amazon, excit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i-structured sites can provide start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are exploding   (business pull instead of technology pu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-commerce sites are using them - MySimon, Affinia, Amazon, Yahoo! Shopping,, 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d vocabularies (for the web) abound -  SIC codes,  UMLS, UN/SPSC, Open Directory, Rosetta Net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ontologies are including r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Ds are making more ontology information avail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es have ontology 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” ontologies are becoming more central to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mplications and Need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Language Syntax and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 for Creation and Maintenance of 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(Conceptual Modeling, reasoning implications,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among distributed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e train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connectivity with many systems/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 and 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himaera – A Merging and Diagnostic Ontology Environ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merging multiple ontologies found in distributed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single or multiple ontologies and focus user attention in problematic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imple browsing and mixed initiative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Merging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a common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representations and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together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epresentational differences must be reconc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ir overlapping content needs to 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r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23:20:40Z</dcterms:created>
  <dc:creator>Deborah McGuinness</dc:creator>
  <dc:description>For Dagstuhl  Semantics on the Web Seminar - 3/20/00</dc:description>
  <dc:language>en-US</dc:language>
  <cp:lastModifiedBy>Stefan Decker</cp:lastModifiedBy>
  <cp:lastPrinted>1999-07-17T02:30:43Z</cp:lastPrinted>
  <dcterms:modified xsi:type="dcterms:W3CDTF">2000-04-09T18:22:37Z</dcterms:modified>
  <cp:revision>215</cp:revision>
  <dc:subject/>
  <dc:title>Ontology Pull</dc:title>
</cp:coreProperties>
</file>